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898-BC43-4CBA-9EE5-1BA66191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8EA-2C41-4A48-9DFF-5B888DDD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5A1-0DC9-4F87-AA38-58F8709D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CAD-D697-49F3-908F-9AA8F8A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0EA-610A-48AE-B716-0A07F373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37A-8F5C-4BC5-BBA2-781EA91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81D-701F-4C66-ABF5-BE66D104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824-4C60-4A2B-9F11-4072A40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5C28-693C-4A92-AFC2-A542EAE4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F516-E906-4393-A1FB-48C49D9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DEB8-F1C2-4634-A042-3D94D23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769-27CC-43F7-97E2-84F98AC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CECF-765B-4532-9C89-D428B836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408-C334-463D-86D9-FAC6BF8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48B-6D1B-437E-A23D-3CCA049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6D2-1D53-4507-8181-49CC2A15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A27E-08EE-4974-95A0-AB234190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A0F-AF01-44F7-90AE-88B6FC2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753-25BB-415E-B171-15757DD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1F9-3671-499A-8AD9-68928C97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958-044F-4A54-8731-15F0BEDB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99E-25C6-4FEB-ADCB-3127FF20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D7C-0C02-4026-BEDC-69EE163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3F7-0443-4B71-B4C4-02C94D3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AFD-9330-45DF-9CDB-2920C648FA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74E-F773-43A2-943A-4F1C9D6C10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f the gravitational attraction of two objects is 100 N.  What would it be if the distance between them were doubled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3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would the force be if the distance is cut in half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f each mass is doubled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81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G??????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4280" y="1827360"/>
            <a:ext cx="395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nry Cavendis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two large and two small lead sph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nd the value of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.67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-1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nd mass of th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22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e the mass of the Ear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886200"/>
                <a:ext cx="86868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8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981080"/>
                <a:ext cx="396252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eleration due to gra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thing experiencing a net force will acceler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bjects on the earth are experiencing a gravitational force from the earth, and they are all the same distance from the center of the earth (radius of the eart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ss of the earth does not chan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24080" y="152280"/>
                <a:ext cx="26672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3880" y="2057400"/>
                <a:ext cx="388620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7280" y="3733920"/>
                <a:ext cx="787536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hat is the gravitation force on a person with a mass of 75 kg by the earth if they are 6378 km apart?  (M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5.97*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g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34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3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34*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34*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59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is one earth’s radius above the earth.  How does it’s acceleration compare to that on the surface of the earth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¼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½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66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upiter is 300 times as massive as the earth and has a radius of 10 times that of the earth.  Estimate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on Jupiter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0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0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73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directly proportional to B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64880"/>
            <a:ext cx="3657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locity of satelli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tellites experience a gravitational for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force is the centripetal for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2362320"/>
                <a:ext cx="1600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010280" y="3124080"/>
                <a:ext cx="16002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520" y="4495680"/>
                <a:ext cx="259056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52880" y="4495680"/>
                <a:ext cx="198144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81280" y="4800600"/>
                <a:ext cx="838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obits the earth 225 km above the surface.  What is the satellite’s speed? (mass earth 5.97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g, radius of earth 6.38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3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7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87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ow far above the earth’s surface is a satellite that is moving with a speed of 2.7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m/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8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8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moving at a constant speed of 8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m/s, is 200 km from the earth’s surface.  What is the mass of the satellit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7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don’t know because I can’t calculate 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458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To calculate the mass of an unknown planet, a satellite is sent into orbit around it at a distance of 3.45x10</a:t>
            </a:r>
            <a:r>
              <a:rPr b="0" lang="en-US" sz="2200" spc="-1" strike="noStrike" baseline="30000">
                <a:solidFill>
                  <a:srgbClr val="006666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 m from its center.  If the satellite is moving at a speed of 3.74x10</a:t>
            </a:r>
            <a:r>
              <a:rPr b="0" lang="en-US" sz="2200" spc="-1" strike="noStrike" baseline="30000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 m/s, what is the mass of the planet?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9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2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2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69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 has a mass of 70 kg, Sally has a mass of 50 kg.  Tom and Sally are standing on a dance floor 20 m apart.  Sally looks up and sees Tom.  She feels an attraction.  Assuming it is gravitational, find the attraction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17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74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6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84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5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wo particles of equal mass are 1 m apart and attract each other with a gravitational force of 5.54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-71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N.  What is the mass of each particl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7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2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11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81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2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wo spheres are placed so that their centers are 2.6 m apart.  If the gravitational force of a attraction between them is 2.75x10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N, what is the mass of each sphere if one is twice the mass of the other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37;0.74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23;0.46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27;0.55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14;0.27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9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direct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inverse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inverse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de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rtion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rect propor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rse propor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rse square la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52920" y="2381400"/>
                <a:ext cx="10159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52920" y="3419640"/>
                <a:ext cx="12859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4952880"/>
                <a:ext cx="16765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objects fall towards the earth they acceler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lileo found objects accelerate toward the earth at the same rate regardless of their ma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ton observed that planets experience a force on them due to the s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 saw that this force varied inversely with the square of the distance between the planet and the s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 also observed that an apple’s acceleration in free fall agreed with th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37000" y="3500280"/>
                <a:ext cx="11113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91120" y="5181480"/>
                <a:ext cx="1295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rce the earth exerts on the apple is equal to the force the apple exerts on th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attraction of two objects must be proportional to the objects’ mass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known as a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avitational for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ton felt this would work anywhere in the univer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leads to a universal law that objects attract other objects with a force proportional to their masses and inversely proportional to the distance between t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ewton’s Law of Universal Gravit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71800" y="1600200"/>
                <a:ext cx="32767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304920" y="3276720"/>
          <a:ext cx="8458200" cy="313992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14400" y="4572000"/>
                <a:ext cx="880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4400" y="5791320"/>
                <a:ext cx="762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2120" y="5181480"/>
                <a:ext cx="1218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3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3886200"/>
                <a:ext cx="1067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4572000"/>
                <a:ext cx="5335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3886200"/>
                <a:ext cx="609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257800" y="510552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02080" y="5791320"/>
                <a:ext cx="35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16:33Z</dcterms:created>
  <dc:creator>End User</dc:creator>
  <dc:description/>
  <dc:language>en-US</dc:language>
  <cp:lastModifiedBy>End User</cp:lastModifiedBy>
  <dcterms:modified xsi:type="dcterms:W3CDTF">2008-04-22T18:04:49Z</dcterms:modified>
  <cp:revision>28</cp:revision>
  <dc:subject/>
  <dc:title>Slide 1</dc:title>
</cp:coreProperties>
</file>